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B6C1-93A8-4E9B-9B32-3D00259DD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4A97-EAB1-4C3F-AA5B-6D750F920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E89-42D0-447D-9CE5-D56F6F78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915-BFF8-4974-B63E-411EC2E9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244-BA62-43AB-B122-7E944E60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4E1-00BC-4554-BE09-80C7AE27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2424-FE88-4430-980D-4CDA249B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B4F5-0EA1-4BD7-98E7-A37A016A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49C7-6088-43FA-9F94-25171DF2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6E9E-F247-44EE-BFE9-72FFC0FC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96B9-FFFE-4EF1-B5AD-BC1021AC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3F65-0E9B-45E2-8113-60221EB4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E201-C8B8-4213-8C2D-1227AE07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208-BB3A-4F35-A4FE-11612E76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FDCA-2A1B-4B1A-B93C-B6D7799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0DD8-974E-4A41-8CD2-B90B518B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E8BA-834F-4CB4-BB2F-DAA6EA9C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0A28-04E6-4AB3-902C-0C4CA1B9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53A8-B94A-438F-AC89-2F84C15C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EA18C-328B-47BB-B783-0C899369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A8720-6F6C-4ED0-8884-764EA1A7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E15A7-2578-418A-932D-CB7A657B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E57F8-5492-472E-B308-9077138C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97750-0C4D-428E-9E15-786BF90C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6C9-B266-4FA5-BF5C-E7AEB0B9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1A831-6756-47C0-A504-6EC91F83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99C33-2841-44B0-8609-CFB7FDAE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42569-36F7-4201-AA5B-480E10F3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2D9B6-A137-412E-B411-EA2BB67F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D9685-774A-4C90-8672-FB3EF53A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6BD60-3CD3-4B51-8FFA-ED8AE50B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03574-05F8-40B4-BAA9-10C204F5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4D90-7E16-4B22-8AC5-B17218EF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64CEE-2178-43ED-BB37-FE30058E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97A31-6FDA-482D-BE15-718A5276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218-B864-4AC6-B0C9-380F0A64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72F96-51C3-4F6B-82AA-E3FD9C21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8A372-643A-4D56-809B-430CC937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959D-2096-4F51-8AE3-4713F930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49F42-6FE8-4140-B0B8-5DBDD378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76331-9669-4745-8590-20973EDC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BA1CE-F576-47F9-ABD1-5F7B8D8C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BC5DB-1622-4E66-8DDC-32329B23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173E5-DFD3-44BF-8C87-B886F829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13CEA-6FF1-481B-A09B-FDA9924B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D73-7792-4864-9C23-B305DA8B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70C-3550-4976-BF87-4C7A276A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6A5-781C-4439-8446-56FD6E48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368-4983-436F-AC3D-473F74B5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BF2-AC39-4E41-BF4B-1A236891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AB7E-1955-40EA-ADE2-1A79F9D7C0F6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B29A-C58A-4723-BC01-A791B74CDBF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9429-996D-4D4A-BEF0-6A50C8122253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BA73-5CCA-4DAB-8E29-7DD29C98D0F5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9573-86F2-469A-9E32-76B220CE53AB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F5CB-98DD-4BEC-B4C2-16BE9209946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0E54-025E-4341-926E-225131890574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B0FA-7D45-4FD8-BAAE-8F9FCA07A4C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outh Dakota AFNR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Academic Integration Activities: Example #4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75675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dentify three slang words or phrases that would describe a plant species. Identify the group that would use that slang word or phras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dentify two colloquialisms that are from two different geographical regions that would help describe a plant species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rite one description of a plant using one of the slang words in your list and write another description of a plant using one of the colloquialisms in your lis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09480" y="19000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Verdana"/>
              </a:rPr>
              <a:t>Horticulture students will be able to understand how slang and colloquialisms impact the meaning of plant descriptions from forms of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g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orticulture, H. 1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rite a description for a plant speci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ademic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11.R.2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udents can analyze how diction affects the interpretation of tex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dentify dialec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A particular variety of language spoken in one place by a distinct group of peopl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Determine how slang, colloquialisms and dialect impact meaning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920" y="2323800"/>
            <a:ext cx="73389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Informal language, such as slang and colloquialisms, can affect the meaning of text because using slang and colloquialisms can indicate who wrote the text and where the text was written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Slang is generally defined as language peculiar to a particular group ( e.g. teenagers, surfers, soldiers, etc.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A colloquialism is a word or phrase that is typically used in a certain area or region (i.e. “pop” in the Midwest vs. “soda” on the coasts vs. “coke” in the South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ad this description of a plant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Pinktopia, an Easy Elegance rose, packs masses of dreamy medium pink blooms against dark green leaves. Pinktopia’s new growth is a stunning red. It makes a great low-maintenance accent plant or hedge. Recurrent bloom cycle. Grows 4 feet tall and 3 feet wide. Zones 4–9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Use these questions to interpret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here was the informal language used?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Dream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s this slang or colloquialism?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lang, because it is a language use by a group instead of a reg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ow does this wording affect our interpretation of the plant description?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any answer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920" y="2323800"/>
            <a:ext cx="70344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ad this description of a plant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For sheer carnal gorgeousness, no other temperate-climate flower even comes close. Of course, if you’re used to looking at things with the cold, steely eye of reason. Oriental poppies reveal some flaws: they bloom early and all too briefly: the taller kinds are apt to flop: and after blooming, their foliage goes into a prolonged and hideous decline before disappearing altogether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Use these questions to interpret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here was the informal language used?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teely eye of reas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s this slang or colloquialism?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olloquialism, because it is a language use by a region instead or a particular group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ow does this wording affect our interpretation of the plant description?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any answer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 Matzner</cp:lastModifiedBy>
  <dcterms:modified xsi:type="dcterms:W3CDTF">2011-08-02T19:54:00Z</dcterms:modified>
  <cp:revision>92</cp:revision>
  <dc:subject/>
  <dc:title>South Dakota Ag Education</dc:title>
</cp:coreProperties>
</file>